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B895-E036-40C5-873D-59A9A78B9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you had to change web pages weekly or dai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8A0E-82BF-4C6C-A649-56951803E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1F7E-8162-4A66-80A6-1BAA52333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S has more than 100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SS Style consists of one or more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on of styles is called a style sh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8977-68A5-4CB8-9E89-0938FEB89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A6B-A814-4E9F-96DE-54C73FF7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113-8169-4378-8986-08CC803F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090-9716-408B-8912-D601807E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253-D952-49F5-BDA9-469DDC44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CF74-A256-4EAA-AD1A-B430FCAF8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4D5F-DBB6-4A1A-A373-94313667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8A73-8015-4284-B74A-85F9E10D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88B9-9B8B-4986-94F1-7F1E4B7F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A73B-B78B-4289-9FEF-A2E198E2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DD50-93D8-455F-87E1-C71A92CA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9DC7-D557-44CB-A691-9D532FCC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034-5631-40FD-BDDB-EC644329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1932-7A52-4AE9-8E6B-D886B1CB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A34B-9971-45CC-8214-BB20D4B5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A916-F5B5-4B8C-ABCA-EEB18F9F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CDF9-684A-4128-BCF4-8434BFC7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92FA-9B10-4B57-BACB-6856CB19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199FA-E7C3-4310-9497-7C75C95D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B9041-D823-4882-B697-92A0ABED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FCDD7-6C89-4C83-9E2C-5C8B760A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4CF20-BF85-476C-B664-4C60C0DA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F07CC-B318-4208-B743-FAFBE45C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E4E-A955-4CF6-A62E-2882394E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44891-2271-4886-B479-86528D39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F7D89-A1C8-4E64-B057-833CA756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62825-7C35-4D7C-8E5F-4939F7AD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65EB2-6271-4DFB-9EA1-570A6A2D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E2C78-DBF5-4000-B1E3-A7DAB40E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3B53A-FB01-442C-8FD1-FFF220A9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786F5-3DB6-4873-B4C6-4AE45814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6DE25-7951-44ED-9322-E8EEFB03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37FE7-BA7E-4A7D-ADB1-7CB9B812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C4480-8EB1-438F-91AB-F633412D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1E9-35C6-409B-B180-3D711221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B3876-6EFD-4917-95A0-06F7A5AD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94371-B9B7-4B6E-A962-7A9557F8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8DAAE-AB5B-4713-9A21-B4A25AD7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784B5-4F4A-4437-BFB4-1DE89596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B9471-C580-4F10-9F0D-248B5332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46828-1754-45A9-A8CE-428990B6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73A75-B16C-40DD-8D0B-86A9FD8D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F86F1-5F4B-4810-AAE9-B3405D7C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40A5A-6320-490B-AE13-722A277D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84E-783C-48FF-816D-F0D47E45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999-F958-4F40-AD6A-4930F75A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7F2-901C-4F1B-B480-E548BF35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913-D048-44D6-AE31-A2777C9A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A68-12DC-4320-BEB9-F3FF09EE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AD45-27FA-4511-924B-675F566900D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6F21-6CBE-4EE9-AEEB-5F0145DFF1B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611A-070D-4568-9D6F-0A7A4C5BAA2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3840-301A-4945-810E-78720416925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ss.html" TargetMode="External"/><Relationship Id="rId2" Type="http://schemas.openxmlformats.org/officeDocument/2006/relationships/hyperlink" Target="file:///external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3schools.com/css/css_reference.asp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ascading Style Sheet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s of CSS Sty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line: written in body of document within tag, affect that element only (defeats purpose of CS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&lt;body style=“color:yellow”&gt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&lt;p style=“text-align:center”&gt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Embedde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CSS style in &lt;head&gt; section using &lt;style&gt; tag, affects single document (Interna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Externa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CSS style in separate file from html code, many web pages can link to one CSS fi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CSS Referenc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dy properties: backgr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xt properties: color, alignment, indents, et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nt properties: size, family, weight, et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nk properties: color for lin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Link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isit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ctiv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ov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st properties: list item mark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ble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ML designed to define the content not the format of web p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HTML to add or change formatting is tedious (direct formatt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3C  created C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move the formatting from the pag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SS defines how HTML will be display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dvantag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lls browser how to display HTML elem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reater consistency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asier to modify cod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ore flexible formatt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SS allows you to format documents in ways that you cannot when you use HTML onl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HTML, a style language for ta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SS Syntax - selector {property:value;}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Selector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the HTML el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Propert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style attribute you want to cha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 how element (selector) will displa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{</a:t>
            </a:r>
            <a:r>
              <a:rPr b="0" lang="en-US" sz="2800" spc="-1" strike="noStrike">
                <a:solidFill>
                  <a:srgbClr val="00b050"/>
                </a:solidFill>
                <a:latin typeface="Georgia"/>
              </a:rPr>
              <a:t>font-siz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</a:t>
            </a:r>
            <a:r>
              <a:rPr b="0" lang="en-US" sz="2800" spc="-1" strike="noStrike">
                <a:solidFill>
                  <a:srgbClr val="0070c0"/>
                </a:solidFill>
                <a:latin typeface="Georgia"/>
              </a:rPr>
              <a:t>24p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;}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perty and value pairs called a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declar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lector, property and value called a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u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28" name="Straight Arrow Connector 4"/>
          <p:cNvCxnSpPr/>
          <p:nvPr/>
        </p:nvCxnSpPr>
        <p:spPr>
          <a:xfrm>
            <a:off x="1522800" y="2666520"/>
            <a:ext cx="1600920" cy="16009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29" name="Straight Arrow Connector 6"/>
          <p:cNvCxnSpPr/>
          <p:nvPr/>
        </p:nvCxnSpPr>
        <p:spPr>
          <a:xfrm>
            <a:off x="2209680" y="3123720"/>
            <a:ext cx="1905840" cy="114372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30" name="Straight Arrow Connector 8"/>
          <p:cNvCxnSpPr/>
          <p:nvPr/>
        </p:nvCxnSpPr>
        <p:spPr>
          <a:xfrm>
            <a:off x="1599840" y="3505320"/>
            <a:ext cx="3963240" cy="76248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SS Synta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alue more than one word enclose with “quotes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style type=“text/css”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 {font-family: “times new roman”}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/style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re than one declaration separate with 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style type=“text/css”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2 {color:yellow;font-style:italic;}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/style&gt;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cxnSp>
        <p:nvCxnSpPr>
          <p:cNvPr id="233" name="Straight Arrow Connector 4"/>
          <p:cNvCxnSpPr/>
          <p:nvPr/>
        </p:nvCxnSpPr>
        <p:spPr>
          <a:xfrm flipH="1">
            <a:off x="5866920" y="2589840"/>
            <a:ext cx="1524960" cy="610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4" name="Straight Arrow Connector 6"/>
          <p:cNvCxnSpPr/>
          <p:nvPr/>
        </p:nvCxnSpPr>
        <p:spPr>
          <a:xfrm flipH="1">
            <a:off x="3276360" y="2589840"/>
            <a:ext cx="4039200" cy="68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5" name="Straight Arrow Connector 8"/>
          <p:cNvCxnSpPr/>
          <p:nvPr/>
        </p:nvCxnSpPr>
        <p:spPr>
          <a:xfrm flipH="1">
            <a:off x="3351960" y="4419720"/>
            <a:ext cx="4039560" cy="762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SS Synta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ouping selectors separate with comma 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style type=“text/css”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ul, ol {color:orange;}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/style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ment: used to explain coding, ignored by browser. Helps when code is edited lat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/*This is a comment*/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38" name="Oval 1"/>
          <p:cNvSpPr/>
          <p:nvPr/>
        </p:nvSpPr>
        <p:spPr>
          <a:xfrm>
            <a:off x="1171440" y="5322960"/>
            <a:ext cx="381240" cy="533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4"/>
          <p:cNvSpPr/>
          <p:nvPr/>
        </p:nvSpPr>
        <p:spPr>
          <a:xfrm>
            <a:off x="4168800" y="5316480"/>
            <a:ext cx="38088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“cascading”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ries of steps, “waterfall” analo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ority by which styles are appli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rowser configuration is default, in absence of style this will be use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xternal CS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mbedded CS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line CS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perties inherited from more specific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SS Synta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ecify styles for several different HTML elements , use clas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style type=“text/css”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.big {color:blue;font-size:20pt;}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.small {color:red;font-size:10pt;}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/style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h1 class=“big”&gt;Text is blue and 20 point&lt;/p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p class=“small”&gt;Text is red and 10 point&lt;/p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4" name="Oval 1"/>
          <p:cNvSpPr/>
          <p:nvPr/>
        </p:nvSpPr>
        <p:spPr>
          <a:xfrm>
            <a:off x="914400" y="3809880"/>
            <a:ext cx="15228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SS Synta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ecify style for a single, unique element, use i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style type=“text/css”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#big {font-size:72pt; text-align:center;}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&lt;/style&gt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e html tag that uses id=“big” will have the style rule above applie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7" name="Oval 1"/>
          <p:cNvSpPr/>
          <p:nvPr/>
        </p:nvSpPr>
        <p:spPr>
          <a:xfrm>
            <a:off x="885960" y="3076560"/>
            <a:ext cx="30456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2:55:40Z</dcterms:created>
  <dc:creator>Owner</dc:creator>
  <dc:description/>
  <dc:language>en-US</dc:language>
  <cp:lastModifiedBy>Paige Haney</cp:lastModifiedBy>
  <dcterms:modified xsi:type="dcterms:W3CDTF">2012-12-10T14:39:54Z</dcterms:modified>
  <cp:revision>31</cp:revision>
  <dc:subject/>
  <dc:title>Cascading Style Sheets</dc:title>
</cp:coreProperties>
</file>